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1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4002120" y="0"/>
            <a:ext cx="3021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265400" y="700200"/>
            <a:ext cx="45669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06120" y="4358880"/>
            <a:ext cx="521028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0" y="8718120"/>
            <a:ext cx="30211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4002120" y="8718120"/>
            <a:ext cx="30211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0D24-CB0A-4FA6-9FE5-7EFAFCFA406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002120" y="8718120"/>
            <a:ext cx="30211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C715-ECED-4466-B7EA-AA7FD3D3107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8718120"/>
            <a:ext cx="30211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0"/>
            <a:ext cx="3021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002120" y="0"/>
            <a:ext cx="3021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68280" y="696960"/>
            <a:ext cx="4565880" cy="3425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06120" y="4359240"/>
            <a:ext cx="521028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65"/>
            </a:gs>
            <a:gs pos="50000">
              <a:srgbClr val="0033cc"/>
            </a:gs>
            <a:gs pos="100000">
              <a:srgbClr val="00196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81160" y="1087560"/>
            <a:ext cx="85816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34272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14360" indent="-2854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2171880" indent="-228600">
              <a:spcBef>
                <a:spcPts val="700"/>
              </a:spcBef>
              <a:buClr>
                <a:srgbClr val="ffffff"/>
              </a:buClr>
              <a:buSzPct val="50000"/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51460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5146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5146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180720" y="6516720"/>
            <a:ext cx="2647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99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99ff"/>
                </a:solidFill>
                <a:latin typeface="Tahoma"/>
              </a:rPr>
              <a:t>Copyright © 2000, Juniper Networks, Inc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1880" y="6216480"/>
            <a:ext cx="47304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362480" y="6516720"/>
            <a:ext cx="88596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99ff"/>
                </a:solidFill>
                <a:latin typeface="Tahoma"/>
              </a:rPr>
              <a:t>Slide </a:t>
            </a:r>
            <a:fld id="{E52A7580-F365-47D9-8075-03A1C312563B}" type="slidenum">
              <a:rPr b="0" lang="en-US" sz="1000" spc="-1" strike="noStrike">
                <a:solidFill>
                  <a:srgbClr val="6699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81160" y="1000080"/>
            <a:ext cx="8643240" cy="5304960"/>
            <a:chOff x="281160" y="1000080"/>
            <a:chExt cx="8643240" cy="5304960"/>
          </a:xfrm>
        </p:grpSpPr>
        <p:sp>
          <p:nvSpPr>
            <p:cNvPr id="5" name=""/>
            <p:cNvSpPr/>
            <p:nvPr/>
          </p:nvSpPr>
          <p:spPr>
            <a:xfrm flipV="1">
              <a:off x="281160" y="999720"/>
              <a:ext cx="8643240" cy="439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16200000">
              <a:off x="6249960" y="3630960"/>
              <a:ext cx="5304960" cy="428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" name="Juniper_r_transparent" descr=""/>
          <p:cNvPicPr/>
          <p:nvPr/>
        </p:nvPicPr>
        <p:blipFill>
          <a:blip r:embed="rId2"/>
          <a:stretch/>
        </p:blipFill>
        <p:spPr>
          <a:xfrm>
            <a:off x="7431120" y="6357960"/>
            <a:ext cx="1493640" cy="3697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65"/>
            </a:gs>
            <a:gs pos="50000">
              <a:srgbClr val="0033cc"/>
            </a:gs>
            <a:gs pos="100000">
              <a:srgbClr val="00196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lgaglogo4" descr=""/>
          <p:cNvPicPr/>
          <p:nvPr/>
        </p:nvPicPr>
        <p:blipFill>
          <a:blip r:embed="rId2"/>
          <a:stretch/>
        </p:blipFill>
        <p:spPr>
          <a:xfrm>
            <a:off x="1952640" y="1330200"/>
            <a:ext cx="5238720" cy="5238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276720" y="6229440"/>
            <a:ext cx="259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99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99ff"/>
                </a:solidFill>
                <a:latin typeface="Tahoma"/>
              </a:rPr>
              <a:t>Copyright © 2000, Juniper Networks, Inc.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1880" y="6216480"/>
            <a:ext cx="47304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uniper_r_transparent" descr=""/>
          <p:cNvPicPr/>
          <p:nvPr/>
        </p:nvPicPr>
        <p:blipFill>
          <a:blip r:embed="rId3"/>
          <a:stretch/>
        </p:blipFill>
        <p:spPr>
          <a:xfrm>
            <a:off x="2965320" y="380880"/>
            <a:ext cx="3211560" cy="792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indent="11448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indent="571680" algn="ctr">
              <a:spcBef>
                <a:spcPts val="700"/>
              </a:spcBef>
              <a:buClr>
                <a:srgbClr val="ffffff"/>
              </a:buClr>
              <a:buSzPct val="50000"/>
              <a:buFont typeface="Tahoma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28800" indent="457200" algn="ctr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28800" indent="4572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28800" indent="4572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65"/>
            </a:gs>
            <a:gs pos="50000">
              <a:srgbClr val="0033cc"/>
            </a:gs>
            <a:gs pos="100000">
              <a:srgbClr val="00196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igh Speed Router Requiremen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caling the IP Services Cor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65"/>
            </a:gs>
            <a:gs pos="50000">
              <a:srgbClr val="0033cc"/>
            </a:gs>
            <a:gs pos="100000">
              <a:srgbClr val="00196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80720" y="369720"/>
            <a:ext cx="870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any Aspects of Product Succes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1160" y="1087200"/>
            <a:ext cx="8581680" cy="57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ystem Desig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34272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fficient capacity and room for growth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34272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ading edge but implementable design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oftware Credibilit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34272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teroperability with installed bas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34272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obustness under Internet-level stres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34272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eting the feature requirements curv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ardware Expertis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34272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ading edge ASIC design and verificat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34272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mplete range of manageable interfac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ality manufacturing and support team and process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65"/>
            </a:gs>
            <a:gs pos="50000">
              <a:srgbClr val="0033cc"/>
            </a:gs>
            <a:gs pos="100000">
              <a:srgbClr val="00196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80720" y="369720"/>
            <a:ext cx="870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bservations/Conclusion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6680" y="1494000"/>
            <a:ext cx="8696160" cy="46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P Demand and growth in available bandwidth fuel the need for next generation router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quirement is for Speed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with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bust control, high reliability and capabilities for value-added service deliver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arriers to market entry are continuously rising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965"/>
            </a:gs>
            <a:gs pos="50000">
              <a:srgbClr val="0033cc"/>
            </a:gs>
            <a:gs pos="100000">
              <a:srgbClr val="00196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2600280" y="3429000"/>
            <a:ext cx="394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ttp://www.juniper.ne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3295800" y="6248520"/>
            <a:ext cx="255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99ff"/>
                </a:solidFill>
                <a:latin typeface="Tahoma"/>
              </a:rPr>
              <a:t>Copyright © 2000, Juniper Network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Juniper_r_transparentblue" descr=""/>
          <p:cNvPicPr/>
          <p:nvPr/>
        </p:nvPicPr>
        <p:blipFill>
          <a:blip r:embed="rId1"/>
          <a:stretch/>
        </p:blipFill>
        <p:spPr>
          <a:xfrm>
            <a:off x="2160720" y="1749600"/>
            <a:ext cx="5145120" cy="12222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65"/>
            </a:gs>
            <a:gs pos="50000">
              <a:srgbClr val="0033cc"/>
            </a:gs>
            <a:gs pos="100000">
              <a:srgbClr val="00196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0720" y="369720"/>
            <a:ext cx="870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utlin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5240" y="1468440"/>
            <a:ext cx="858204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spcBef>
                <a:spcPts val="1400"/>
              </a:spcBef>
              <a:buClr>
                <a:srgbClr val="ffff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spcBef>
                <a:spcPts val="1400"/>
              </a:spcBef>
              <a:buClr>
                <a:srgbClr val="ffff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ternet Scaling and the New IP Infrastructur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spcBef>
                <a:spcPts val="1400"/>
              </a:spcBef>
              <a:buClr>
                <a:srgbClr val="ffff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quirements and Anatomy of a Next Generation Core Router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spcBef>
                <a:spcPts val="1400"/>
              </a:spcBef>
              <a:buClr>
                <a:srgbClr val="ffff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quirements for Market Succes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spcBef>
                <a:spcPts val="1400"/>
              </a:spcBef>
              <a:buClr>
                <a:srgbClr val="ffff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65"/>
            </a:gs>
            <a:gs pos="50000">
              <a:srgbClr val="0033cc"/>
            </a:gs>
            <a:gs pos="100000">
              <a:srgbClr val="00196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0720" y="369720"/>
            <a:ext cx="870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Next Generation Core Routing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 rot="2530200">
            <a:off x="2451240" y="2222640"/>
            <a:ext cx="1238040" cy="706320"/>
          </a:xfrm>
          <a:prstGeom prst="rightArrow">
            <a:avLst>
              <a:gd name="adj1" fmla="val 50000"/>
              <a:gd name="adj2" fmla="val 4382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rot="19069800">
            <a:off x="5335200" y="2271600"/>
            <a:ext cx="1219320" cy="638280"/>
          </a:xfrm>
          <a:prstGeom prst="rightArrow">
            <a:avLst>
              <a:gd name="adj1" fmla="val 50000"/>
              <a:gd name="adj2" fmla="val 4775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3330200">
            <a:off x="5270400" y="4317480"/>
            <a:ext cx="1401840" cy="648000"/>
          </a:xfrm>
          <a:prstGeom prst="rightArrow">
            <a:avLst>
              <a:gd name="adj1" fmla="val 50000"/>
              <a:gd name="adj2" fmla="val 5408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 rot="19069800">
            <a:off x="2134800" y="4369680"/>
            <a:ext cx="1600200" cy="639720"/>
          </a:xfrm>
          <a:prstGeom prst="rightArrow">
            <a:avLst>
              <a:gd name="adj1" fmla="val 50000"/>
              <a:gd name="adj2" fmla="val 6253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75320" y="1460520"/>
            <a:ext cx="297180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fa4"/>
                </a:solidFill>
                <a:latin typeface="Tahoma"/>
              </a:rPr>
              <a:t>Plummeting cost of raw 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1040" y="4965840"/>
            <a:ext cx="3365280" cy="1557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fa4"/>
                </a:solidFill>
                <a:latin typeface="Tahoma"/>
              </a:rPr>
              <a:t>Continuous improvement in semiconductor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6440" y="1295280"/>
            <a:ext cx="4178160" cy="1015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fa4"/>
                </a:solidFill>
                <a:latin typeface="Tahoma"/>
              </a:rPr>
              <a:t>Rapid growth of the 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fa4"/>
                </a:solidFill>
                <a:latin typeface="Tahoma"/>
              </a:rPr>
              <a:t>Users and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51640" y="4965840"/>
            <a:ext cx="297180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fa4"/>
                </a:solidFill>
                <a:latin typeface="Tahoma"/>
              </a:rPr>
              <a:t>Fundamental importance of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icon_c_router_ppt" descr=""/>
          <p:cNvPicPr/>
          <p:nvPr/>
        </p:nvPicPr>
        <p:blipFill>
          <a:blip r:embed="rId1"/>
          <a:stretch/>
        </p:blipFill>
        <p:spPr>
          <a:xfrm>
            <a:off x="3639960" y="2752560"/>
            <a:ext cx="1697040" cy="17337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65"/>
            </a:gs>
            <a:gs pos="50000">
              <a:srgbClr val="0033cc"/>
            </a:gs>
            <a:gs pos="100000">
              <a:srgbClr val="00196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4720" y="491760"/>
            <a:ext cx="87058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outer Evolution – Not Just Spee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819000" y="2419200"/>
            <a:ext cx="0" cy="341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19000" y="5823000"/>
            <a:ext cx="6782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857160" y="5010120"/>
            <a:ext cx="8038800" cy="1085760"/>
            <a:chOff x="857160" y="5010120"/>
            <a:chExt cx="8038800" cy="1085760"/>
          </a:xfrm>
        </p:grpSpPr>
        <p:sp>
          <p:nvSpPr>
            <p:cNvPr id="112" name=""/>
            <p:cNvSpPr/>
            <p:nvPr/>
          </p:nvSpPr>
          <p:spPr>
            <a:xfrm>
              <a:off x="857160" y="5010120"/>
              <a:ext cx="8038800" cy="1085760"/>
            </a:xfrm>
            <a:prstGeom prst="rightArrow">
              <a:avLst>
                <a:gd name="adj1" fmla="val 50000"/>
                <a:gd name="adj2" fmla="val 185096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99640" y="538308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onnectiv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286000" y="4476600"/>
            <a:ext cx="6629400" cy="1067040"/>
            <a:chOff x="2286000" y="4476600"/>
            <a:chExt cx="6629400" cy="1067040"/>
          </a:xfrm>
        </p:grpSpPr>
        <p:sp>
          <p:nvSpPr>
            <p:cNvPr id="115" name=""/>
            <p:cNvSpPr/>
            <p:nvPr/>
          </p:nvSpPr>
          <p:spPr>
            <a:xfrm>
              <a:off x="2286000" y="4476600"/>
              <a:ext cx="6629400" cy="1067040"/>
            </a:xfrm>
            <a:prstGeom prst="rightArrow">
              <a:avLst>
                <a:gd name="adj1" fmla="val 50000"/>
                <a:gd name="adj2" fmla="val 155322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94040" y="4786200"/>
              <a:ext cx="156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eliab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200400" y="3924360"/>
            <a:ext cx="5715000" cy="1104840"/>
            <a:chOff x="3200400" y="3924360"/>
            <a:chExt cx="5715000" cy="1104840"/>
          </a:xfrm>
        </p:grpSpPr>
        <p:sp>
          <p:nvSpPr>
            <p:cNvPr id="118" name=""/>
            <p:cNvSpPr/>
            <p:nvPr/>
          </p:nvSpPr>
          <p:spPr>
            <a:xfrm>
              <a:off x="3200400" y="3924360"/>
              <a:ext cx="5715000" cy="1104840"/>
            </a:xfrm>
            <a:prstGeom prst="rightArrow">
              <a:avLst>
                <a:gd name="adj1" fmla="val 50000"/>
                <a:gd name="adj2" fmla="val 129317"/>
              </a:avLst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48280" y="4254480"/>
              <a:ext cx="20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962520" y="3429000"/>
            <a:ext cx="4895640" cy="1028880"/>
            <a:chOff x="3962520" y="3429000"/>
            <a:chExt cx="4895640" cy="1028880"/>
          </a:xfrm>
        </p:grpSpPr>
        <p:sp>
          <p:nvSpPr>
            <p:cNvPr id="121" name=""/>
            <p:cNvSpPr/>
            <p:nvPr/>
          </p:nvSpPr>
          <p:spPr>
            <a:xfrm>
              <a:off x="3962520" y="3429000"/>
              <a:ext cx="4895640" cy="1028880"/>
            </a:xfrm>
            <a:prstGeom prst="rightArrow">
              <a:avLst>
                <a:gd name="adj1" fmla="val 50000"/>
                <a:gd name="adj2" fmla="val 118956"/>
              </a:avLst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56240" y="3722760"/>
              <a:ext cx="186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ntellig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 rot="16200000">
            <a:off x="-360" y="328608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04480" y="5846760"/>
            <a:ext cx="21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1980’s              1990’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82440" y="5845320"/>
            <a:ext cx="75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333440" y="1095480"/>
            <a:ext cx="7372080" cy="4146120"/>
            <a:chOff x="1333440" y="1095480"/>
            <a:chExt cx="7372080" cy="4146120"/>
          </a:xfrm>
        </p:grpSpPr>
        <p:sp>
          <p:nvSpPr>
            <p:cNvPr id="127" name=""/>
            <p:cNvSpPr/>
            <p:nvPr/>
          </p:nvSpPr>
          <p:spPr>
            <a:xfrm flipV="1">
              <a:off x="1333440" y="3209400"/>
              <a:ext cx="3238560" cy="203220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4354560" y="1095480"/>
              <a:ext cx="4350960" cy="2275920"/>
              <a:chOff x="4354560" y="1095480"/>
              <a:chExt cx="4350960" cy="2275920"/>
            </a:xfrm>
          </p:grpSpPr>
          <p:pic>
            <p:nvPicPr>
              <p:cNvPr id="129" name="cloud" descr=""/>
              <p:cNvPicPr/>
              <p:nvPr/>
            </p:nvPicPr>
            <p:blipFill>
              <a:blip r:embed="rId1"/>
              <a:stretch/>
            </p:blipFill>
            <p:spPr>
              <a:xfrm>
                <a:off x="4354560" y="1095480"/>
                <a:ext cx="4350960" cy="227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"/>
              <p:cNvSpPr/>
              <p:nvPr/>
            </p:nvSpPr>
            <p:spPr>
              <a:xfrm>
                <a:off x="5191920" y="1647360"/>
                <a:ext cx="2448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ahoma"/>
                  </a:rPr>
                  <a:t>The New I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ahoma"/>
                  </a:rPr>
                  <a:t>Infrastructu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" name=""/>
          <p:cNvSpPr/>
          <p:nvPr/>
        </p:nvSpPr>
        <p:spPr>
          <a:xfrm>
            <a:off x="4052520" y="6110280"/>
            <a:ext cx="9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65"/>
            </a:gs>
            <a:gs pos="50000">
              <a:srgbClr val="0033cc"/>
            </a:gs>
            <a:gs pos="100000">
              <a:srgbClr val="00196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514600" y="2819520"/>
            <a:ext cx="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2819520"/>
            <a:ext cx="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81160" y="1226880"/>
            <a:ext cx="8557920" cy="53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95640" indent="-395640">
              <a:spcBef>
                <a:spcPts val="1400"/>
              </a:spcBef>
              <a:buClr>
                <a:srgbClr val="ffff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edictable performance characteristic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05040" indent="-33912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ine Rate forwarding under any condition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05040" indent="-33912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ow and predictable latenc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05040" indent="-339120">
              <a:spcBef>
                <a:spcPts val="11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ass of Service with performanc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5640" indent="-395640">
              <a:spcBef>
                <a:spcPts val="1400"/>
              </a:spcBef>
              <a:buClr>
                <a:srgbClr val="ffff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terface Rates up to current optical limit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95640" indent="-395640">
              <a:spcBef>
                <a:spcPts val="1400"/>
              </a:spcBef>
              <a:buClr>
                <a:srgbClr val="ffff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bility to support wide range of interfac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95640" indent="-395640">
              <a:spcBef>
                <a:spcPts val="1400"/>
              </a:spcBef>
              <a:buClr>
                <a:srgbClr val="ffff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ystem reliabilit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95640" indent="-395640">
              <a:spcBef>
                <a:spcPts val="1400"/>
              </a:spcBef>
              <a:buClr>
                <a:srgbClr val="ffff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pport IP Service Provider requirement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05040" indent="-33912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.g. MPLS, multicast, etc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5640" indent="-395640">
              <a:spcBef>
                <a:spcPts val="1400"/>
              </a:spcBef>
              <a:buClr>
                <a:srgbClr val="ffff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teroperability with installed bas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80720" y="430920"/>
            <a:ext cx="8705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ext Generation Router Design Goal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65"/>
            </a:gs>
            <a:gs pos="50000">
              <a:srgbClr val="0033cc"/>
            </a:gs>
            <a:gs pos="100000">
              <a:srgbClr val="00196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0840" y="447480"/>
            <a:ext cx="9307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atomy of a Next Generation Router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9080" y="1636200"/>
            <a:ext cx="3870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System and network control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90000"/>
              </a:lnSpc>
              <a:spcBef>
                <a:spcPts val="1624"/>
              </a:spcBef>
              <a:buClr>
                <a:srgbClr val="ffff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Line rate packet scheduling and forwarding decisions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90000"/>
              </a:lnSpc>
              <a:spcBef>
                <a:spcPts val="1624"/>
              </a:spcBef>
              <a:buClr>
                <a:srgbClr val="ffff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High speed interface interconnect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376520" y="1387440"/>
            <a:ext cx="4214520" cy="4788000"/>
          </a:xfrm>
          <a:prstGeom prst="rect">
            <a:avLst/>
          </a:prstGeom>
          <a:solidFill>
            <a:srgbClr val="f8f8f8"/>
          </a:solidFill>
          <a:ln w="0">
            <a:noFill/>
          </a:ln>
          <a:effectLst>
            <a:outerShdw dist="7178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99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9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Three Balanced Element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221440" y="2711520"/>
            <a:ext cx="2562120" cy="2817360"/>
            <a:chOff x="5221440" y="2711520"/>
            <a:chExt cx="2562120" cy="2817360"/>
          </a:xfrm>
        </p:grpSpPr>
        <p:grpSp>
          <p:nvGrpSpPr>
            <p:cNvPr id="140" name=""/>
            <p:cNvGrpSpPr/>
            <p:nvPr/>
          </p:nvGrpSpPr>
          <p:grpSpPr>
            <a:xfrm>
              <a:off x="5221440" y="2711520"/>
              <a:ext cx="2562120" cy="837360"/>
              <a:chOff x="5221440" y="2711520"/>
              <a:chExt cx="2562120" cy="837360"/>
            </a:xfrm>
          </p:grpSpPr>
          <p:sp>
            <p:nvSpPr>
              <p:cNvPr id="141" name=""/>
              <p:cNvSpPr/>
              <p:nvPr/>
            </p:nvSpPr>
            <p:spPr>
              <a:xfrm>
                <a:off x="5221440" y="2711520"/>
                <a:ext cx="2562120" cy="8373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0" rIns="118800" tIns="59400" bIns="594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364000" y="2937960"/>
                <a:ext cx="227628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9080" rIns="109080" tIns="54360" bIns="5436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Operating Syste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5221440" y="3700800"/>
              <a:ext cx="2562120" cy="838800"/>
              <a:chOff x="5221440" y="3700800"/>
              <a:chExt cx="2562120" cy="838800"/>
            </a:xfrm>
          </p:grpSpPr>
          <p:sp>
            <p:nvSpPr>
              <p:cNvPr id="144" name=""/>
              <p:cNvSpPr/>
              <p:nvPr/>
            </p:nvSpPr>
            <p:spPr>
              <a:xfrm>
                <a:off x="5221440" y="3700800"/>
                <a:ext cx="2562120" cy="83880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0" rIns="118800" tIns="59400" bIns="594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357880" y="3927600"/>
                <a:ext cx="228996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9080" rIns="109080" tIns="54360" bIns="5436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Packet Process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5221440" y="4691880"/>
              <a:ext cx="2562120" cy="837000"/>
              <a:chOff x="5221440" y="4691880"/>
              <a:chExt cx="2562120" cy="837000"/>
            </a:xfrm>
          </p:grpSpPr>
          <p:sp>
            <p:nvSpPr>
              <p:cNvPr id="147" name=""/>
              <p:cNvSpPr/>
              <p:nvPr/>
            </p:nvSpPr>
            <p:spPr>
              <a:xfrm>
                <a:off x="5221440" y="4691880"/>
                <a:ext cx="2562120" cy="83700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0" rIns="118800" tIns="59400" bIns="594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356080" y="4919040"/>
                <a:ext cx="229608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9080" rIns="109080" tIns="54360" bIns="5436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Forwarding Fabri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65"/>
            </a:gs>
            <a:gs pos="50000">
              <a:srgbClr val="0033cc"/>
            </a:gs>
            <a:gs pos="100000">
              <a:srgbClr val="00196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859280" y="1536840"/>
            <a:ext cx="3583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6000"/>
          </a:bodyPr>
          <a:p>
            <a:pPr marL="393120" indent="-3931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089000"/>
                <a:tab algn="l" pos="2178000"/>
                <a:tab algn="l" pos="3267000"/>
                <a:tab algn="l" pos="4356000"/>
                <a:tab algn="l" pos="5445000"/>
                <a:tab algn="l" pos="6534000"/>
                <a:tab algn="l" pos="7623000"/>
                <a:tab algn="l" pos="8712360"/>
                <a:tab algn="l" pos="9801360"/>
                <a:tab algn="l" pos="10890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Route Calc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3120" indent="-39312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Wingdings" charset="2"/>
              <a:buChar char=""/>
              <a:tabLst>
                <a:tab algn="l" pos="1089000"/>
                <a:tab algn="l" pos="2178000"/>
                <a:tab algn="l" pos="3267000"/>
                <a:tab algn="l" pos="4356000"/>
                <a:tab algn="l" pos="5445000"/>
                <a:tab algn="l" pos="6534000"/>
                <a:tab algn="l" pos="7623000"/>
                <a:tab algn="l" pos="8712360"/>
                <a:tab algn="l" pos="9801360"/>
                <a:tab algn="l" pos="108903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Software flexibili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93120" indent="-39312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Wingdings" charset="2"/>
              <a:buChar char=""/>
              <a:tabLst>
                <a:tab algn="l" pos="1089000"/>
                <a:tab algn="l" pos="2178000"/>
                <a:tab algn="l" pos="3267000"/>
                <a:tab algn="l" pos="4356000"/>
                <a:tab algn="l" pos="5445000"/>
                <a:tab algn="l" pos="6534000"/>
                <a:tab algn="l" pos="7623000"/>
                <a:tab algn="l" pos="8712360"/>
                <a:tab algn="l" pos="9801360"/>
                <a:tab algn="l" pos="108903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Stability under stres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93120" indent="-39312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Wingdings" charset="2"/>
              <a:buChar char=""/>
              <a:tabLst>
                <a:tab algn="l" pos="1089000"/>
                <a:tab algn="l" pos="2178000"/>
                <a:tab algn="l" pos="3267000"/>
                <a:tab algn="l" pos="4356000"/>
                <a:tab algn="l" pos="5445000"/>
                <a:tab algn="l" pos="6534000"/>
                <a:tab algn="l" pos="7623000"/>
                <a:tab algn="l" pos="8712360"/>
                <a:tab algn="l" pos="9801360"/>
                <a:tab algn="l" pos="108903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Complete Interoperabili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7440" y="1295280"/>
            <a:ext cx="4114800" cy="5029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44640" y="4700520"/>
            <a:ext cx="2970000" cy="1027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70080" y="5472000"/>
            <a:ext cx="128520" cy="13824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60520" y="5472000"/>
            <a:ext cx="130320" cy="13824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52760" y="5472000"/>
            <a:ext cx="128520" cy="13824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44640" y="3600360"/>
            <a:ext cx="2970000" cy="10987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25520" y="4748040"/>
            <a:ext cx="221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Forwarding Fabr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349280" y="5629320"/>
            <a:ext cx="577440" cy="409680"/>
            <a:chOff x="1349280" y="5629320"/>
            <a:chExt cx="577440" cy="409680"/>
          </a:xfrm>
        </p:grpSpPr>
        <p:sp>
          <p:nvSpPr>
            <p:cNvPr id="158" name=""/>
            <p:cNvSpPr/>
            <p:nvPr/>
          </p:nvSpPr>
          <p:spPr>
            <a:xfrm>
              <a:off x="1349280" y="5629320"/>
              <a:ext cx="83160" cy="4096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49680" bIns="496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3800" y="5629320"/>
              <a:ext cx="82800" cy="4096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49680" bIns="496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79400" y="5629320"/>
              <a:ext cx="82800" cy="4096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49680" bIns="496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43560" y="5629320"/>
              <a:ext cx="83160" cy="4096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49680" bIns="496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338120" y="5308560"/>
            <a:ext cx="603360" cy="465120"/>
          </a:xfrm>
          <a:prstGeom prst="rect">
            <a:avLst/>
          </a:prstGeom>
          <a:solidFill>
            <a:srgbClr val="99cc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2400" y="5295960"/>
            <a:ext cx="699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2fa4"/>
                </a:solidFill>
                <a:latin typeface="Tahoma"/>
              </a:rPr>
              <a:t>I/O car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024360" y="5629320"/>
            <a:ext cx="588600" cy="409680"/>
            <a:chOff x="3024360" y="5629320"/>
            <a:chExt cx="588600" cy="409680"/>
          </a:xfrm>
        </p:grpSpPr>
        <p:sp>
          <p:nvSpPr>
            <p:cNvPr id="165" name=""/>
            <p:cNvSpPr/>
            <p:nvPr/>
          </p:nvSpPr>
          <p:spPr>
            <a:xfrm>
              <a:off x="3024360" y="5629320"/>
              <a:ext cx="84600" cy="4096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49680" bIns="496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92120" y="5629320"/>
              <a:ext cx="84240" cy="4096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49680" bIns="496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60960" y="5629320"/>
              <a:ext cx="84240" cy="4096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49680" bIns="496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28360" y="5629320"/>
              <a:ext cx="84600" cy="4096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49680" bIns="496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3011400" y="5308560"/>
            <a:ext cx="615960" cy="465120"/>
          </a:xfrm>
          <a:prstGeom prst="rect">
            <a:avLst/>
          </a:prstGeom>
          <a:solidFill>
            <a:srgbClr val="99cc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67120" y="5295960"/>
            <a:ext cx="711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2fa4"/>
                </a:solidFill>
                <a:latin typeface="Tahoma"/>
              </a:rPr>
              <a:t>I/O car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49400" y="3719520"/>
            <a:ext cx="2800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nternet      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55680" y="2849400"/>
            <a:ext cx="455760" cy="729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74920" y="2693880"/>
            <a:ext cx="1440" cy="132876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44640" y="1706400"/>
            <a:ext cx="2970000" cy="136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44640" y="1676520"/>
            <a:ext cx="172080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fa4"/>
                </a:solidFill>
                <a:latin typeface="Tahoma"/>
              </a:rPr>
              <a:t>Routing Operating 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68200" y="3123720"/>
            <a:ext cx="10036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06400" y="2520360"/>
            <a:ext cx="1389240" cy="521640"/>
          </a:xfrm>
          <a:prstGeom prst="rect">
            <a:avLst/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rwarding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43120" y="4082400"/>
            <a:ext cx="1390680" cy="521640"/>
          </a:xfrm>
          <a:prstGeom prst="rect">
            <a:avLst/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rwarding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0720" y="369720"/>
            <a:ext cx="870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 Closer Look at the Anatomy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4846680" y="3517920"/>
            <a:ext cx="381168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4000"/>
          </a:bodyPr>
          <a:p>
            <a:pPr marL="384840" indent="-384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089000"/>
                <a:tab algn="l" pos="2178000"/>
                <a:tab algn="l" pos="3267000"/>
                <a:tab algn="l" pos="4356000"/>
                <a:tab algn="l" pos="5445000"/>
                <a:tab algn="l" pos="6534000"/>
                <a:tab algn="l" pos="7623000"/>
                <a:tab algn="l" pos="8712360"/>
                <a:tab algn="l" pos="9801360"/>
                <a:tab algn="l" pos="10890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acket Forward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4840" indent="-38484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Wingdings" charset="2"/>
              <a:buChar char=""/>
              <a:tabLst>
                <a:tab algn="l" pos="1089000"/>
                <a:tab algn="l" pos="2178000"/>
                <a:tab algn="l" pos="3267000"/>
                <a:tab algn="l" pos="4356000"/>
                <a:tab algn="l" pos="5445000"/>
                <a:tab algn="l" pos="6534000"/>
                <a:tab algn="l" pos="7623000"/>
                <a:tab algn="l" pos="8712360"/>
                <a:tab algn="l" pos="9801360"/>
                <a:tab algn="l" pos="108903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ASIC based performan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84840" indent="-38484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Wingdings" charset="2"/>
              <a:buChar char=""/>
              <a:tabLst>
                <a:tab algn="l" pos="1089000"/>
                <a:tab algn="l" pos="2178000"/>
                <a:tab algn="l" pos="3267000"/>
                <a:tab algn="l" pos="4356000"/>
                <a:tab algn="l" pos="5445000"/>
                <a:tab algn="l" pos="6534000"/>
                <a:tab algn="l" pos="7623000"/>
                <a:tab algn="l" pos="8712360"/>
                <a:tab algn="l" pos="9801360"/>
                <a:tab algn="l" pos="108903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Integration of features affecting packet flow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84840" indent="-38484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Wingdings" charset="2"/>
              <a:buChar char=""/>
              <a:tabLst>
                <a:tab algn="l" pos="1089000"/>
                <a:tab algn="l" pos="2178000"/>
                <a:tab algn="l" pos="3267000"/>
                <a:tab algn="l" pos="4356000"/>
                <a:tab algn="l" pos="5445000"/>
                <a:tab algn="l" pos="6534000"/>
                <a:tab algn="l" pos="7623000"/>
                <a:tab algn="l" pos="8712360"/>
                <a:tab algn="l" pos="9801360"/>
                <a:tab algn="l" pos="108903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Oversized capaci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84840" indent="-38484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Wingdings" charset="2"/>
              <a:buChar char=""/>
              <a:tabLst>
                <a:tab algn="l" pos="1089000"/>
                <a:tab algn="l" pos="2178000"/>
                <a:tab algn="l" pos="3267000"/>
                <a:tab algn="l" pos="4356000"/>
                <a:tab algn="l" pos="5445000"/>
                <a:tab algn="l" pos="6534000"/>
                <a:tab algn="l" pos="7623000"/>
                <a:tab algn="l" pos="8712360"/>
                <a:tab algn="l" pos="9801360"/>
                <a:tab algn="l" pos="108903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Balanced fabric throughput and route lookup spe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65"/>
            </a:gs>
            <a:gs pos="50000">
              <a:srgbClr val="0033cc"/>
            </a:gs>
            <a:gs pos="100000">
              <a:srgbClr val="00196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7200" y="1295280"/>
            <a:ext cx="716292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4133160" y="1882440"/>
            <a:ext cx="4230000" cy="398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942" y="467"/>
                </a:moveTo>
                <a:arcTo wR="10800" hR="10800" stAng="-4385228" swAng="3495789"/>
                <a:lnTo>
                  <a:pt x="10800" y="10800"/>
                </a:lnTo>
                <a:close/>
              </a:path>
              <a:path fill="none" w="21600" h="21600">
                <a:moveTo>
                  <a:pt x="13942" y="467"/>
                </a:moveTo>
                <a:arcTo wR="10800" hR="10800" stAng="-4385228" swAng="3495789"/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0720" y="369720"/>
            <a:ext cx="870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 Feature Requirements Curv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2209680"/>
            <a:ext cx="360" cy="2590920"/>
          </a:xfrm>
          <a:prstGeom prst="line">
            <a:avLst/>
          </a:prstGeom>
          <a:noFill/>
          <a:ln cap="sq"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990000" y="4876200"/>
            <a:ext cx="6172200" cy="360"/>
          </a:xfrm>
          <a:prstGeom prst="line">
            <a:avLst/>
          </a:prstGeom>
          <a:noFill/>
          <a:ln cap="sq"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9800" y="496476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 1980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5371920"/>
            <a:ext cx="205740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Microprocessor-based packet 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800600" y="1975680"/>
            <a:ext cx="2666880" cy="1015920"/>
            <a:chOff x="4800600" y="1975680"/>
            <a:chExt cx="2666880" cy="1015920"/>
          </a:xfrm>
        </p:grpSpPr>
        <p:sp>
          <p:nvSpPr>
            <p:cNvPr id="189" name=""/>
            <p:cNvSpPr/>
            <p:nvPr/>
          </p:nvSpPr>
          <p:spPr>
            <a:xfrm>
              <a:off x="5181480" y="1975680"/>
              <a:ext cx="2057400" cy="10159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00600" y="2212200"/>
              <a:ext cx="266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Internet focused routing O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80880" y="137052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te of feature 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62320" y="495216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90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91120" y="49392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 1990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5333760"/>
            <a:ext cx="1600200" cy="916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ASIC-based packet 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43200" y="2209680"/>
            <a:ext cx="0" cy="40388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2209680"/>
            <a:ext cx="0" cy="40388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6200000">
            <a:off x="3939840" y="248760"/>
            <a:ext cx="3202920" cy="880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77" y="7"/>
                </a:moveTo>
                <a:arcTo wR="10800" hR="10800" stAng="-5280049" swAng="6641312"/>
                <a:lnTo>
                  <a:pt x="10800" y="10800"/>
                </a:lnTo>
                <a:close/>
              </a:path>
              <a:path fill="none" w="21600" h="21600">
                <a:moveTo>
                  <a:pt x="11177" y="7"/>
                </a:moveTo>
                <a:arcTo wR="10800" hR="10800" stAng="-5280049" swAng="6641312"/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480440" y="1383480"/>
            <a:ext cx="1428480" cy="1530720"/>
            <a:chOff x="7480440" y="1383480"/>
            <a:chExt cx="1428480" cy="1530720"/>
          </a:xfrm>
        </p:grpSpPr>
        <p:grpSp>
          <p:nvGrpSpPr>
            <p:cNvPr id="199" name=""/>
            <p:cNvGrpSpPr/>
            <p:nvPr/>
          </p:nvGrpSpPr>
          <p:grpSpPr>
            <a:xfrm>
              <a:off x="7632720" y="2450160"/>
              <a:ext cx="1069560" cy="464040"/>
              <a:chOff x="7632720" y="2450160"/>
              <a:chExt cx="1069560" cy="464040"/>
            </a:xfrm>
          </p:grpSpPr>
          <p:sp>
            <p:nvSpPr>
              <p:cNvPr id="200" name=""/>
              <p:cNvSpPr/>
              <p:nvPr/>
            </p:nvSpPr>
            <p:spPr>
              <a:xfrm>
                <a:off x="7708680" y="2450880"/>
                <a:ext cx="91404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632720" y="2450160"/>
                <a:ext cx="1069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5f5f5f"/>
                    </a:solidFill>
                    <a:latin typeface="Tahoma"/>
                  </a:rPr>
                  <a:t>Switch Fabri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7632720" y="1916640"/>
              <a:ext cx="1212480" cy="464400"/>
              <a:chOff x="7632720" y="1916640"/>
              <a:chExt cx="1212480" cy="464400"/>
            </a:xfrm>
          </p:grpSpPr>
          <p:sp>
            <p:nvSpPr>
              <p:cNvPr id="203" name=""/>
              <p:cNvSpPr/>
              <p:nvPr/>
            </p:nvSpPr>
            <p:spPr>
              <a:xfrm>
                <a:off x="7708680" y="1917720"/>
                <a:ext cx="914040" cy="46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632720" y="1916640"/>
                <a:ext cx="1212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5f5f5f"/>
                    </a:solidFill>
                    <a:latin typeface="Tahoma"/>
                  </a:rPr>
                  <a:t>Packet Process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7480440" y="1383480"/>
              <a:ext cx="1428480" cy="488160"/>
              <a:chOff x="7480440" y="1383480"/>
              <a:chExt cx="1428480" cy="488160"/>
            </a:xfrm>
          </p:grpSpPr>
          <p:sp>
            <p:nvSpPr>
              <p:cNvPr id="206" name=""/>
              <p:cNvSpPr/>
              <p:nvPr/>
            </p:nvSpPr>
            <p:spPr>
              <a:xfrm>
                <a:off x="7709040" y="1414440"/>
                <a:ext cx="914400" cy="4572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480440" y="1383480"/>
                <a:ext cx="1428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Operating Syste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" name=""/>
          <p:cNvGrpSpPr/>
          <p:nvPr/>
        </p:nvGrpSpPr>
        <p:grpSpPr>
          <a:xfrm>
            <a:off x="1905120" y="3423600"/>
            <a:ext cx="2666880" cy="1015920"/>
            <a:chOff x="1905120" y="3423600"/>
            <a:chExt cx="2666880" cy="1015920"/>
          </a:xfrm>
        </p:grpSpPr>
        <p:sp>
          <p:nvSpPr>
            <p:cNvPr id="209" name=""/>
            <p:cNvSpPr/>
            <p:nvPr/>
          </p:nvSpPr>
          <p:spPr>
            <a:xfrm>
              <a:off x="2286000" y="3423600"/>
              <a:ext cx="2057400" cy="1015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905120" y="3660120"/>
              <a:ext cx="266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eneral purpose routing O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 flipV="1">
            <a:off x="5715000" y="1460160"/>
            <a:ext cx="1219320" cy="3682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65"/>
            </a:gs>
            <a:gs pos="50000">
              <a:srgbClr val="0033cc"/>
            </a:gs>
            <a:gs pos="100000">
              <a:srgbClr val="00196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52280" y="1347840"/>
            <a:ext cx="42847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spcBef>
                <a:spcPts val="1199"/>
              </a:spcBef>
              <a:buClr>
                <a:srgbClr val="ffff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cused on provider scale and featur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spcBef>
                <a:spcPts val="1199"/>
              </a:spcBef>
              <a:buClr>
                <a:srgbClr val="ffff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odular design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34272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High reliability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34272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High maintainabilit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34272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ggressive feature introduction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spcBef>
                <a:spcPts val="1199"/>
              </a:spcBef>
              <a:buClr>
                <a:srgbClr val="ffff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ich, robust routing protocol implementation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spcBef>
                <a:spcPts val="1199"/>
              </a:spcBef>
              <a:buClr>
                <a:srgbClr val="ffff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mplete interoperabilit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313920" y="495000"/>
            <a:ext cx="8829720" cy="40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outing Operating System Requirement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264200" y="2355840"/>
            <a:ext cx="4206600" cy="3002040"/>
            <a:chOff x="4264200" y="2355840"/>
            <a:chExt cx="4206600" cy="3002040"/>
          </a:xfrm>
        </p:grpSpPr>
        <p:sp>
          <p:nvSpPr>
            <p:cNvPr id="215" name=""/>
            <p:cNvSpPr/>
            <p:nvPr/>
          </p:nvSpPr>
          <p:spPr>
            <a:xfrm>
              <a:off x="4264200" y="4443480"/>
              <a:ext cx="4206600" cy="91440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9400" rIns="239400" tIns="119520" bIns="11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78280" y="4656240"/>
              <a:ext cx="24346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9400" rIns="239400" tIns="119520" bIns="11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perating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79680" y="2355840"/>
              <a:ext cx="639360" cy="20559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9400" rIns="239400" tIns="119520" bIns="11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rot="16217400">
              <a:off x="3987360" y="3176640"/>
              <a:ext cx="1258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9400" rIns="239400" tIns="119520" bIns="11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rotoc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95720" y="2371680"/>
              <a:ext cx="639360" cy="2040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9400" rIns="239400" tIns="119520" bIns="11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681520" y="2370240"/>
              <a:ext cx="639360" cy="2041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9400" rIns="239400" tIns="119520" bIns="11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29240" y="2370240"/>
              <a:ext cx="639360" cy="2041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9400" rIns="239400" tIns="119520" bIns="11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129440" y="2386080"/>
              <a:ext cx="639360" cy="2025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9400" rIns="239400" tIns="119520" bIns="11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rot="16231200">
              <a:off x="4340160" y="3253320"/>
              <a:ext cx="19814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9400" rIns="239400" tIns="119520" bIns="11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Interface Mgm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rot="16231200">
              <a:off x="5135400" y="3240720"/>
              <a:ext cx="176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9400" rIns="239400" tIns="119520" bIns="11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ssis Mgm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rot="16231200">
              <a:off x="6321600" y="3236040"/>
              <a:ext cx="8607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9400" rIns="239400" tIns="119520" bIns="11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N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rot="16231200">
              <a:off x="6887880" y="3213000"/>
              <a:ext cx="1125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9400" rIns="239400" tIns="119520" bIns="11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ecu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91200" y="3330720"/>
              <a:ext cx="122040" cy="106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1000" rIns="261000" tIns="-55080" bIns="-55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134200" y="3330720"/>
              <a:ext cx="122040" cy="106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1000" rIns="261000" tIns="-55080" bIns="-55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4360" y="3332160"/>
              <a:ext cx="121680" cy="106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1000" rIns="261000" tIns="-55080" bIns="-55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6T23:08:12Z</dcterms:created>
  <dc:creator>Martin Schulman</dc:creator>
  <dc:description/>
  <dc:language>en-US</dc:language>
  <cp:lastModifiedBy>dave o'leary</cp:lastModifiedBy>
  <cp:lastPrinted>1998-04-28T22:07:07Z</cp:lastPrinted>
  <dcterms:modified xsi:type="dcterms:W3CDTF">2000-02-20T23:54:05Z</dcterms:modified>
  <cp:revision>224</cp:revision>
  <dc:subject>IP, Optical Networking, WDM</dc:subject>
  <dc:title>IP Over WDM</dc:title>
</cp:coreProperties>
</file>